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1C9-91AE-4DAC-A726-4D056D52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14A-F9A7-4904-896A-AE5835E1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31A-B33A-4446-9B41-1E3D3E28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5B5-A917-4437-80F5-634C3D64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448-7E66-4A77-8E36-71C6A5F4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807-9374-4D3D-9C72-17489630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43B-4EE9-4B6E-B83E-1FA2E204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24D-4830-4F81-A0DE-DA78287B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E0B-157E-47A4-8ECD-18179E69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3B0-03C5-499C-8AB6-612FE133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E1C-4FDB-4F0A-BD94-618DB634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8E9-ABAE-4C3C-893B-7B95B835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DBDD-DAF0-49B5-9486-6F0876052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82880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br>
              <a:rPr sz="20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informa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cientifique web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t magazine pap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1828800"/>
            <a:ext cx="14479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ournies par 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rcheurs CN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4648320"/>
            <a:ext cx="1447560" cy="761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des internaute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ux cherchu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1828800"/>
            <a:ext cx="1676160" cy="1676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si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ctualité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4495680"/>
            <a:ext cx="1600200" cy="2133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éb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1066680"/>
            <a:ext cx="2514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 br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1752480"/>
            <a:ext cx="2438280" cy="762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avail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2666880"/>
            <a:ext cx="259092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itions démar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464832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orama 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cepts scientif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541008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cienc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us curricul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280"/>
            <a:ext cx="342900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court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52280"/>
            <a:ext cx="37339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E ST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avec archivage des doss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6248520"/>
            <a:ext cx="2590920" cy="3808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tre avis (questionnaire en lig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3352680"/>
            <a:ext cx="24382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aller plus l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omaine des sci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omaine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066680"/>
            <a:ext cx="3962520" cy="76212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1447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143000"/>
            <a:ext cx="5486400" cy="68580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505320"/>
            <a:ext cx="2057400" cy="10666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 Regards sur la science 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èves 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écouvertes 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olitique scientif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8954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2819520"/>
            <a:ext cx="685800" cy="1066680"/>
          </a:xfrm>
          <a:custGeom>
            <a:avLst/>
            <a:gdLst>
              <a:gd name="textAreaLeft" fmla="*/ 196920 w 685800"/>
              <a:gd name="textAreaRight" fmla="*/ 587520 w 6858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2819520"/>
            <a:ext cx="152640" cy="1752480"/>
          </a:xfrm>
          <a:prstGeom prst="upDownArrow">
            <a:avLst>
              <a:gd name="adj1" fmla="val 50000"/>
              <a:gd name="adj2" fmla="val 2285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4:53:28Z</dcterms:created>
  <dc:creator>lyon49</dc:creator>
  <dc:description/>
  <dc:language>en-US</dc:language>
  <cp:lastModifiedBy>lyon49</cp:lastModifiedBy>
  <dcterms:modified xsi:type="dcterms:W3CDTF">2003-11-18T14:57:47Z</dcterms:modified>
  <cp:revision>2</cp:revision>
  <dc:subject/>
  <dc:title>Présentation PowerPoint</dc:title>
</cp:coreProperties>
</file>