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99C-40BA-4378-875E-DF3C800A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D05-2DFE-4F53-9A25-74BF7003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014-D355-403F-9BAC-2E02EFAA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CA3-A0AE-4B07-B833-20DDCBBF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9AD-6498-41F0-BA6A-988CF72C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2AB-DB4D-486A-9B9C-A8F26237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B01-A74C-43C8-837D-70ACB3DE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DE9-1142-47DA-B98A-5570A2AA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7DC-048C-4A2C-BEE2-275D6AF4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16F-DA4B-4B50-A002-006DFBD9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92B-B538-4AA0-9AB8-25573234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FC5-5B7D-4D50-814D-21833B2A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001F-77E2-43E8-88A0-043BFE7EB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82880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br>
              <a:rPr sz="20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informa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cientifique web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t magazine pap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182880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urnies par 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rcheurs CN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46483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internaute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ux cherchu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1828800"/>
            <a:ext cx="1676160" cy="1676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si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ctualité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4495680"/>
            <a:ext cx="1600200" cy="213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éb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1066680"/>
            <a:ext cx="2514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 b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752480"/>
            <a:ext cx="243828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avail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itions démar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64832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orama 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pts scientif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541008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ienc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us curricul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280"/>
            <a:ext cx="34290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court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52280"/>
            <a:ext cx="3733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E S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avec archivage des doss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6248520"/>
            <a:ext cx="2590920" cy="3808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tre avis (questionnaire en lig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3352680"/>
            <a:ext cx="24382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aller plus l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omaine des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omaine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066680"/>
            <a:ext cx="3962520" cy="76212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1447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143000"/>
            <a:ext cx="5486400" cy="6858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505320"/>
            <a:ext cx="2057400" cy="10666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 Regards sur la science 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èv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écouvertes 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olitique scientif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8954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2819520"/>
            <a:ext cx="685800" cy="1066680"/>
          </a:xfrm>
          <a:custGeom>
            <a:avLst/>
            <a:gdLst>
              <a:gd name="textAreaLeft" fmla="*/ 196920 w 685800"/>
              <a:gd name="textAreaRight" fmla="*/ 587520 w 6858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819520"/>
            <a:ext cx="152640" cy="1752480"/>
          </a:xfrm>
          <a:prstGeom prst="upDownArrow">
            <a:avLst>
              <a:gd name="adj1" fmla="val 50000"/>
              <a:gd name="adj2" fmla="val 2285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4:53:28Z</dcterms:created>
  <dc:creator>lyon49</dc:creator>
  <dc:description/>
  <dc:language>en-US</dc:language>
  <cp:lastModifiedBy>lyon49</cp:lastModifiedBy>
  <dcterms:modified xsi:type="dcterms:W3CDTF">2003-11-18T14:57:47Z</dcterms:modified>
  <cp:revision>2</cp:revision>
  <dc:subject/>
  <dc:title>Présentation PowerPoint</dc:title>
</cp:coreProperties>
</file>