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723-5ED6-418B-90DB-921ACE5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3E2-FDC7-4EE7-AAF8-BA1CDFB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71E-42EF-4F81-8D7C-A9035159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18F-D177-45B8-81CF-A3726638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9F3-DC77-4A38-A8E6-3472494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8EB-F2C7-41C5-B0AD-0A859B03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C88-7C48-4BF0-9A41-9D842F8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550-2A5F-4B24-A047-4BB30819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2B3-51BD-4084-913F-C461BA50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23F-28AB-4316-8CC3-7348640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BB9-0F94-4062-A7D2-FE7FF22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D7D-2C27-47EB-93BE-7A886DD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E3C-07A1-41EB-A8B6-38FA89B64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hyperlink" Target="file:///APP3S38P2.avi" TargetMode="Externa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problématique de l'enseigna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9552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1752480" cy="164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32004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57880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lèves:diversité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niveau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cultur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0292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41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04812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gramm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savoirs, savoir-faire et savoirs-être à faire acquér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efficience pédagogique: éduquer et plus seulement instrui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temps li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943600"/>
            <a:ext cx="99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ELP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ents d’élèves:transpa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ocumentation: Usages et Besoins</a:t>
            </a:r>
            <a:br>
              <a:rPr sz="3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quête Education et Cancer 2005  (F Jauzein, M Vial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 enseignants Rhône-Alpes SVT Collèges et Lycée  (~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3048120"/>
          <a:ext cx="51055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5105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1981080"/>
            <a:ext cx="35049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esoins identifiés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UALIS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se à jour des connaissances disciplinaires, ouverture sur sujets de science V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ACTS avec des spécialistes (scientifiques, médecin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CES SIMPLE à une documentation FACILE à UTILISER en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poser d’OUTILS pédagogiques INTERESSANTS permettant une autonomie des él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99072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23880" y="2666880"/>
          <a:ext cx="86688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66880"/>
                    <a:ext cx="8668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057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Usages de documentation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éponse propos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057400"/>
          <a:ext cx="130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130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48120" y="1828800"/>
          <a:ext cx="145548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14554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4120" y="2590920"/>
          <a:ext cx="1904760" cy="14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590920"/>
                    <a:ext cx="1904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086600" y="1676520"/>
          <a:ext cx="1905120" cy="17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676520"/>
                    <a:ext cx="190512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4191120"/>
          <a:ext cx="3352680" cy="23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33526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880" y="4267080"/>
            <a:ext cx="28195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54100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219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érences et réfé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vè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s concrè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2670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80880"/>
          <a:ext cx="609624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6096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19:53Z</dcterms:created>
  <dc:creator>jauzein</dc:creator>
  <dc:description/>
  <dc:language>en-US</dc:language>
  <cp:lastModifiedBy>jauzein</cp:lastModifiedBy>
  <dcterms:modified xsi:type="dcterms:W3CDTF">2006-11-12T12:24:26Z</dcterms:modified>
  <cp:revision>14</cp:revision>
  <dc:subject/>
  <dc:title>Présentation PowerPoint</dc:title>
</cp:coreProperties>
</file>