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719-38E7-435D-BD98-AE4F6D0B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800-9EDE-4F22-998B-F415B047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6DE-0C70-452D-95B2-47602DA9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9C9-5C7F-4CE6-A43F-EC50EE34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370D-8501-4373-85D9-5F51B28F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16B9-F20C-4A29-BCF8-66EB570D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A39-CCA5-4D55-90D9-0608E7CE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DD16-2685-441C-97FA-36D31B57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2520-B10B-445A-A828-A7AAB2CE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BCF-205A-47A3-963D-34A1D058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961-247A-445F-935F-B9F6FCDB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B31-C8F7-4EDE-877C-EB46F96B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468C-ED2D-4AA0-879A-5A9E8189C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828800"/>
            <a:ext cx="16765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br>
              <a:rPr sz="20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informat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cientifique web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t magazine pap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1828800"/>
            <a:ext cx="14479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ournies par 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ercheurs CN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4648320"/>
            <a:ext cx="1447560" cy="761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des internaute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ux cherchu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1828800"/>
            <a:ext cx="1676160" cy="1676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si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actualité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4495680"/>
            <a:ext cx="1600200" cy="2133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a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éb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1066680"/>
            <a:ext cx="2514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 br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1752480"/>
            <a:ext cx="2438280" cy="762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ravail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2666880"/>
            <a:ext cx="2590920" cy="6098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itions démarch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4648320"/>
            <a:ext cx="23623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norama d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cepts scientifiq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5410080"/>
            <a:ext cx="23623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cienc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ersus curricul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280"/>
            <a:ext cx="3429000" cy="83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E 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ffichage mensuel, court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52280"/>
            <a:ext cx="37339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NE ST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ffichage mensuel, avec archivage des doss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6248520"/>
            <a:ext cx="2590920" cy="3808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tre avis (questionnaire en lig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3352680"/>
            <a:ext cx="24382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r aller plus l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omaine des scie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omaine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1066680"/>
            <a:ext cx="3962520" cy="76212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14479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143000"/>
            <a:ext cx="5486400" cy="68580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505320"/>
            <a:ext cx="2057400" cy="10666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 Regards sur la science 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èves s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écouvertes 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olitique scientif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8954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2819520"/>
            <a:ext cx="685800" cy="1066680"/>
          </a:xfrm>
          <a:custGeom>
            <a:avLst/>
            <a:gdLst>
              <a:gd name="textAreaLeft" fmla="*/ 196920 w 685800"/>
              <a:gd name="textAreaRight" fmla="*/ 587520 w 6858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2819520"/>
            <a:ext cx="152640" cy="1752480"/>
          </a:xfrm>
          <a:prstGeom prst="upDownArrow">
            <a:avLst>
              <a:gd name="adj1" fmla="val 50000"/>
              <a:gd name="adj2" fmla="val 2285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4:53:28Z</dcterms:created>
  <dc:creator>lyon49</dc:creator>
  <dc:description/>
  <dc:language>en-US</dc:language>
  <cp:lastModifiedBy>lyon49</cp:lastModifiedBy>
  <dcterms:modified xsi:type="dcterms:W3CDTF">2003-11-18T14:57:47Z</dcterms:modified>
  <cp:revision>2</cp:revision>
  <dc:subject/>
  <dc:title>Présentation PowerPoint</dc:title>
</cp:coreProperties>
</file>