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9.jpeg" ContentType="image/jpeg"/>
  <Override PartName="/ppt/media/image11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BA3-DFC5-4CD0-897E-78D8327A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88B-B6C5-49E8-8C26-29C30F6F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2C2-8852-4792-BAD8-C380D1C7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76D-7045-4AC7-A004-79656C42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5B3-0675-4C3C-A2A1-A02E5B0A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414-AE76-4478-89E9-5C2D5BFD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DA2-25A1-48C2-8796-24429396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84A-856C-4B86-A5F0-0AB74794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87A-118B-4E37-905B-1EB9D703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651-2CFA-46DC-B787-247FC46F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7C5-137D-46F6-A841-67344B97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BAF-8624-4DFD-ADFD-ED645BA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12FC-85F2-4CD8-9E6C-0C5BE10C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hyperlink" Target="file:///APP3S38P2.avi" TargetMode="External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28600"/>
            <a:ext cx="6257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 problématique de l'enseigna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1812960" cy="14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59552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2057400" cy="172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7400" y="1600200"/>
            <a:ext cx="1752480" cy="164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3200400" cy="25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57880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lèves:diversité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niveau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cultur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mot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0292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114800"/>
            <a:ext cx="228600" cy="762120"/>
          </a:xfrm>
          <a:prstGeom prst="upDownArrow">
            <a:avLst>
              <a:gd name="adj1" fmla="val 50000"/>
              <a:gd name="adj2" fmla="val 6636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3341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04812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gramm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savoirs, savoir-faire et savoirs-être à faire acquéri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efficience pédagogique: éduquer et plus seulement instrui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temps lim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5943600"/>
            <a:ext cx="9903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HELP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521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ents d’élèves:transpa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Documentation: Usages et Besoins</a:t>
            </a:r>
            <a:br>
              <a:rPr sz="3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Enquête Education et Cancer 2005  (F Jauzein, M Vial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90 enseignants Rhône-Alpes SVT Collèges et Lycée  (~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3048120"/>
          <a:ext cx="51055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51055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105520" y="1981080"/>
            <a:ext cx="350496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Besoins identifiés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UALIS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se à jour des connaissances disciplinaires, ouverture sur sujets de science V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ACTS avec des spécialistes (scientifiques, médecins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CES SIMPLE à une documentation FACILE à UTILISER en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poser d’OUTILS pédagogiques INTERESSANTS permettant une autonomie des élè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99036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666880" y="4495680"/>
            <a:ext cx="990720" cy="8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523880" y="2666880"/>
          <a:ext cx="866880" cy="11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666880"/>
                    <a:ext cx="8668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04920" y="20574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Usages de documentation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réponse propos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2057400"/>
          <a:ext cx="13064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1306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048120" y="1828800"/>
          <a:ext cx="145548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828800"/>
                    <a:ext cx="14554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4120" y="2590920"/>
          <a:ext cx="1904760" cy="14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590920"/>
                    <a:ext cx="1904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086600" y="1676520"/>
          <a:ext cx="1905120" cy="17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676520"/>
                    <a:ext cx="190512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4120" y="4191120"/>
          <a:ext cx="3352680" cy="238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191120"/>
                    <a:ext cx="335268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380880" y="4267080"/>
            <a:ext cx="2819520" cy="229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5410080"/>
            <a:ext cx="1066680" cy="103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2193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érences et réfé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vè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752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s concrè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26708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3880" y="380880"/>
          <a:ext cx="609624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0880"/>
                    <a:ext cx="60962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0:19:53Z</dcterms:created>
  <dc:creator>jauzein</dc:creator>
  <dc:description/>
  <dc:language>en-US</dc:language>
  <cp:lastModifiedBy>jauzein</cp:lastModifiedBy>
  <dcterms:modified xsi:type="dcterms:W3CDTF">2006-11-12T12:24:26Z</dcterms:modified>
  <cp:revision>14</cp:revision>
  <dc:subject/>
  <dc:title>Présentation PowerPoint</dc:title>
</cp:coreProperties>
</file>