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C77-2E1E-4A11-9AA6-44D7AF32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6FF-94F0-45BE-917C-5745528A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72A-BFD4-4190-878D-5FA3D06C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352-073B-4180-9E01-00B59A6D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BDE-7A7B-46BA-A7F0-55F881B2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EDF-D4AD-4060-856D-CB8F86EB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A69-4EC1-4983-9625-965A7FF7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73E-6F1C-4A09-9AE9-683A1B54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1C3-C949-49DF-8DD8-8DC635F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37E-70DD-4298-BD84-624642E8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277-806A-4B9B-AB1F-951F296D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8CC-CD08-4BE0-920E-47DEACAC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41E5-D3DA-4CA9-BC05-3EEDE55EA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8288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br>
              <a:rPr sz="20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informa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cientifique web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t magazine pap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182880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urnies par 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rcheurs CN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4648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internaute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x cherchu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1828800"/>
            <a:ext cx="1676160" cy="1676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s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ctualité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4495680"/>
            <a:ext cx="160020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éb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1066680"/>
            <a:ext cx="2514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 b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752480"/>
            <a:ext cx="243828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avail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itions démar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64832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rama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pts scientif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541008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us curricu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280"/>
            <a:ext cx="34290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court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52280"/>
            <a:ext cx="3733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E S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avec archivage des doss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6248520"/>
            <a:ext cx="2590920" cy="3808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tre avis (questionnaire en lig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3352680"/>
            <a:ext cx="24382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ller plus l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omaine des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omaine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066680"/>
            <a:ext cx="3962520" cy="76212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1447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143000"/>
            <a:ext cx="5486400" cy="685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505320"/>
            <a:ext cx="205740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 Regards sur la science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èv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écouvertes 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olitique scient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8954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281952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819520"/>
            <a:ext cx="152640" cy="1752480"/>
          </a:xfrm>
          <a:prstGeom prst="upDownArrow">
            <a:avLst>
              <a:gd name="adj1" fmla="val 50000"/>
              <a:gd name="adj2" fmla="val 228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4:53:28Z</dcterms:created>
  <dc:creator>lyon49</dc:creator>
  <dc:description/>
  <dc:language>en-US</dc:language>
  <cp:lastModifiedBy>lyon49</cp:lastModifiedBy>
  <dcterms:modified xsi:type="dcterms:W3CDTF">2003-11-18T14:57:47Z</dcterms:modified>
  <cp:revision>2</cp:revision>
  <dc:subject/>
  <dc:title>Présentation PowerPoint</dc:title>
</cp:coreProperties>
</file>