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9.jpeg" ContentType="image/jpeg"/>
  <Override PartName="/ppt/media/image11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CC2-F864-43D4-9635-3450BE57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0E2-3D0E-4E1C-BE16-1056E081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EDB-CD35-4378-AEE5-CEC7E24E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E27-3105-43C0-AB81-29DEDF0C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908B-A15A-4FD5-896B-255D8B75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8F6-EFDD-4840-A667-97C4B2CF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AD0-8E0C-482B-8357-0784FC34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E28-7B01-4F8D-B6CE-29CB8012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799-AE7A-4154-A0B6-73D2E201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5A6-7127-4405-9645-A3257CD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141-84AA-4E6C-9038-52C101C4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816-5362-49CE-B076-D9ABC73E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EE97-1DB5-4DF6-B007-4F4179F5C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hyperlink" Target="file:///APP3S38P2.avi" TargetMode="External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28600"/>
            <a:ext cx="6257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cc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 problématique de l'enseigna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cc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1812960" cy="149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1595520" cy="198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2057400" cy="172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057400" y="1600200"/>
            <a:ext cx="1752480" cy="164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715000" y="3886200"/>
            <a:ext cx="3200400" cy="25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57880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lèves:diversité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niveau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cultur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mot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50292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114800"/>
            <a:ext cx="228600" cy="762120"/>
          </a:xfrm>
          <a:prstGeom prst="upDownArrow">
            <a:avLst>
              <a:gd name="adj1" fmla="val 50000"/>
              <a:gd name="adj2" fmla="val 6636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533412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048120"/>
            <a:ext cx="670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gramme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savoirs, savoir-faire et savoirs-être à faire acquéri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efficience pédagogique: éduquer et plus seulement instrui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temps lim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5943600"/>
            <a:ext cx="9903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HELP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6521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ents d’élèves:transpa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Documentation: Usages et Besoins</a:t>
            </a:r>
            <a:br>
              <a:rPr sz="3200"/>
            </a:b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Enquête Education et Cancer 2005  (F Jauzein, M Vial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90 enseignants Rhône-Alpes SVT Collèges et Lycée  (~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3048120"/>
          <a:ext cx="510552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51055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105520" y="1981080"/>
            <a:ext cx="350496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Besoins identifiés en S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UALIS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ise à jour des connaissances disciplinaires, ouverture sur sujets de science V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ACTS avec des spécialistes (scientifiques, médecins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CES SIMPLE à une documentation FACILE à UTILISER en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poser d’OUTILS pédagogiques INTERESSANTS permettant une autonomie des élè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99036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666880" y="4495680"/>
            <a:ext cx="990720" cy="8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523880" y="2666880"/>
          <a:ext cx="866880" cy="11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2666880"/>
                    <a:ext cx="8668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04920" y="20574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Usages de documentation en S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réponse propos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2120" y="2057400"/>
          <a:ext cx="13064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13064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048120" y="1828800"/>
          <a:ext cx="145548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828800"/>
                    <a:ext cx="14554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34120" y="2590920"/>
          <a:ext cx="1904760" cy="14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590920"/>
                    <a:ext cx="1904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7086600" y="1676520"/>
          <a:ext cx="1905120" cy="17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676520"/>
                    <a:ext cx="190512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4120" y="4191120"/>
          <a:ext cx="3352680" cy="238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4191120"/>
                    <a:ext cx="335268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380880" y="4267080"/>
            <a:ext cx="2819520" cy="229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5410080"/>
            <a:ext cx="1066680" cy="103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12193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érences et réfé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vè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17524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s concrè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26708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8288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br>
              <a:rPr sz="20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informa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cientifique web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t magazine pap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182880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urnies par 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rcheurs CN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648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internaute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x cherchu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1828800"/>
            <a:ext cx="1676160" cy="1676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s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ctualité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495680"/>
            <a:ext cx="160020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éb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1066680"/>
            <a:ext cx="2514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 b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52480"/>
            <a:ext cx="243828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avail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itions démar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64832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rama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pts scientif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541008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us curricu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52280"/>
            <a:ext cx="34290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court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152280"/>
            <a:ext cx="3733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E S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avec archivage des doss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6248520"/>
            <a:ext cx="2590920" cy="3808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tre avis (questionnaire en lig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352680"/>
            <a:ext cx="24382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ller plus l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omaine des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omaine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1066680"/>
            <a:ext cx="3962520" cy="76212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1447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143000"/>
            <a:ext cx="5486400" cy="685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05320"/>
            <a:ext cx="205740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 Regards sur la science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èv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écouvertes 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olitique scient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8954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81952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19520"/>
            <a:ext cx="152640" cy="1752480"/>
          </a:xfrm>
          <a:prstGeom prst="upDownArrow">
            <a:avLst>
              <a:gd name="adj1" fmla="val 50000"/>
              <a:gd name="adj2" fmla="val 228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3880" y="380880"/>
          <a:ext cx="609624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0880"/>
                    <a:ext cx="60962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0:19:53Z</dcterms:created>
  <dc:creator>jauzein</dc:creator>
  <dc:description/>
  <dc:language>en-US</dc:language>
  <cp:lastModifiedBy>jauzein</cp:lastModifiedBy>
  <dcterms:modified xsi:type="dcterms:W3CDTF">2006-11-12T12:24:26Z</dcterms:modified>
  <cp:revision>14</cp:revision>
  <dc:subject/>
  <dc:title>Présentation PowerPoint</dc:title>
</cp:coreProperties>
</file>