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C1C-FB2C-4542-8980-5829981C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66C-5B83-4509-A1ED-B8C00319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46C-6DDF-4B4D-B7DB-2F9A586B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A70-E7B9-4B3E-BD4A-140180E7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079-75CE-4445-81A2-8D3F87A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D1A-5FE0-487B-9E73-F6AB8885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FEC-ECB9-4993-B220-2530CBA4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9EE-D854-4798-A20D-734CE46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584-4E8E-45C3-981F-6FFA4B40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379-3A8B-45DC-9B61-02313D0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C25-3B40-4DD0-82A1-3AB3E8D1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FE3-E3B6-4167-9B05-0B14704C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23A2-8184-4B34-A87E-6E63CFA4B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4:53:28Z</dcterms:created>
  <dc:creator>lyon49</dc:creator>
  <dc:description/>
  <dc:language>en-US</dc:language>
  <cp:lastModifiedBy>lyon49</cp:lastModifiedBy>
  <dcterms:modified xsi:type="dcterms:W3CDTF">2003-11-18T14:57:47Z</dcterms:modified>
  <cp:revision>2</cp:revision>
  <dc:subject/>
  <dc:title>Présentation PowerPoint</dc:title>
</cp:coreProperties>
</file>