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20.png" ContentType="image/png"/>
  <Override PartName="/ppt/media/image2.wmf" ContentType="image/x-wmf"/>
  <Override PartName="/ppt/media/image18.jpeg" ContentType="image/jpeg"/>
  <Override PartName="/ppt/media/image17.wmf" ContentType="image/x-wmf"/>
  <Override PartName="/ppt/media/image16.png" ContentType="image/png"/>
  <Override PartName="/ppt/media/image15.png" ContentType="image/png"/>
  <Override PartName="/ppt/media/image1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9.jpeg" ContentType="image/jpeg"/>
  <Override PartName="/ppt/media/image11.png" ContentType="image/png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bin" ContentType="application/vnd.openxmlformats-officedocument.oleObject"/>
  <Override PartName="/ppt/embeddings/oleObject1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01B0-545C-49D5-BC91-3463785C0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7804-0AAF-41EE-BB30-CE33FBD1F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8855-744A-465C-9A2B-E2FB12EDF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7114-5B4B-4BD5-B3D5-76F7F5A98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050C-455C-4E11-B9BA-35CD59C16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F177-903B-4C33-8C8F-BF2CFB22A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1E35-C2EA-4FE6-9C7C-BDF7B5F21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51A4-ADEA-4D79-AEAB-8F945656D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D7FC-1B9A-4418-9FDE-811CD503A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6703-BDF5-4DA3-AA85-FFB1C5BC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2B21-A5FA-4E7B-BB17-D74E16D8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54E3-643C-4EC9-A2BD-D9347008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ffe7"/>
            </a:gs>
            <a:gs pos="100000">
              <a:srgbClr val="5f756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EFF0B-B369-4D88-8F03-A64A85E8BC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hyperlink" Target="file:///APP3S38P2.avi" TargetMode="External"/><Relationship Id="rId13" Type="http://schemas.openxmlformats.org/officeDocument/2006/relationships/image" Target="../media/image17.wmf"/><Relationship Id="rId1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ffe7"/>
            </a:gs>
            <a:gs pos="100000">
              <a:srgbClr val="5f756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523880" y="228600"/>
            <a:ext cx="62578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cc66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La problématique de l'enseignant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ffcc66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95280" y="4724280"/>
            <a:ext cx="1812960" cy="1498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1595520" cy="1981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581280" y="1676520"/>
            <a:ext cx="2057400" cy="17254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3733920" y="4267080"/>
            <a:ext cx="1793880" cy="1587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2057400" y="1600200"/>
            <a:ext cx="1752480" cy="1644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5715000" y="3886200"/>
            <a:ext cx="3200400" cy="2562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581280" y="5788080"/>
            <a:ext cx="2057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Elèves:diversité 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- de niveau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- de culture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- de motiv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5029200"/>
            <a:ext cx="609480" cy="304920"/>
          </a:xfrm>
          <a:prstGeom prst="leftArrow">
            <a:avLst>
              <a:gd name="adj1" fmla="val 50000"/>
              <a:gd name="adj2" fmla="val 4997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38280" y="4114800"/>
            <a:ext cx="228600" cy="762120"/>
          </a:xfrm>
          <a:prstGeom prst="upDownArrow">
            <a:avLst>
              <a:gd name="adj1" fmla="val 50000"/>
              <a:gd name="adj2" fmla="val 6636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743200" y="5334120"/>
            <a:ext cx="1214280" cy="485640"/>
          </a:xfrm>
          <a:prstGeom prst="leftRightArrow">
            <a:avLst>
              <a:gd name="adj1" fmla="val 50000"/>
              <a:gd name="adj2" fmla="val 49776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52480" y="3048120"/>
            <a:ext cx="6705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ogramme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- savoirs, savoir-faire et savoirs-être à faire acquérir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- efficience pédagogique: éduquer et plus seulement instruir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- temps limit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04920" y="5943600"/>
            <a:ext cx="99036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omic Sans MS"/>
              </a:rPr>
              <a:t>HELP 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5715000" y="65214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arents d’élèves:transpa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ffe7"/>
            </a:gs>
            <a:gs pos="100000">
              <a:srgbClr val="5f756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cc"/>
                </a:solidFill>
                <a:latin typeface="Comic Sans MS"/>
              </a:rPr>
              <a:t>Documentation: Usages et Besoins</a:t>
            </a:r>
            <a:br>
              <a:rPr sz="3200"/>
            </a:b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Enquête Education et Cancer 2005  (F Jauzein, M Vial)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90 enseignants Rhône-Alpes SVT Collèges et Lycée  (~5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0" y="3048120"/>
          <a:ext cx="5105520" cy="3200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8120"/>
                    <a:ext cx="510552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5105520" y="1981080"/>
            <a:ext cx="3504960" cy="40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mic Sans MS"/>
              </a:rPr>
              <a:t>Besoins identifiés en SV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CTUALISA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ise à jour des connaissances disciplinaires, ouverture sur sujets de science V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ONTACTS avec des spécialistes (scientifiques, médecins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CCES SIMPLE à une documentation FACILE à UTILISER en clas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Disposer d’OUTILS pédagogiques INTERESSANTS permettant une autonomie des élè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676520" y="5486400"/>
            <a:ext cx="990360" cy="863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666880" y="4495680"/>
            <a:ext cx="990720" cy="833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1523880" y="2666880"/>
          <a:ext cx="866880" cy="1197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2666880"/>
                    <a:ext cx="866880" cy="11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304920" y="2057400"/>
            <a:ext cx="403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mic Sans MS"/>
              </a:rPr>
              <a:t>Usages de documentation en SV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ffe7"/>
            </a:gs>
            <a:gs pos="100000">
              <a:srgbClr val="5f756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réponse proposé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762120" y="2057400"/>
          <a:ext cx="130644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13064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3048120" y="1828800"/>
          <a:ext cx="1455480" cy="208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1828800"/>
                    <a:ext cx="1455480" cy="20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5334120" y="2590920"/>
          <a:ext cx="1904760" cy="1423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4120" y="2590920"/>
                    <a:ext cx="1904760" cy="14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7086600" y="1676520"/>
          <a:ext cx="1905120" cy="1736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86600" y="1676520"/>
                    <a:ext cx="1905120" cy="17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5334120" y="4191120"/>
          <a:ext cx="3352680" cy="2388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34120" y="4191120"/>
                    <a:ext cx="3352680" cy="23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" name="" descr=""/>
          <p:cNvPicPr/>
          <p:nvPr/>
        </p:nvPicPr>
        <p:blipFill>
          <a:blip r:embed="rId11"/>
          <a:stretch/>
        </p:blipFill>
        <p:spPr>
          <a:xfrm>
            <a:off x="380880" y="4267080"/>
            <a:ext cx="2819520" cy="2293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78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3733920" y="5410080"/>
            <a:ext cx="1066680" cy="10321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33520" y="121932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érences et réfé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971800" y="1371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Évèn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05520" y="175248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ions concrè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76720" y="4267080"/>
            <a:ext cx="1904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édagog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ffe7"/>
            </a:gs>
            <a:gs pos="100000">
              <a:srgbClr val="5f756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828800"/>
            <a:ext cx="167652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br>
              <a:rPr sz="2000"/>
            </a:b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informations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scientifique web 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et magazine pap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0" y="1828800"/>
            <a:ext cx="144792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onnées</a:t>
            </a:r>
            <a:br>
              <a:rPr sz="16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fournies par l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chercheurs CN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62320" y="4648320"/>
            <a:ext cx="1447560" cy="761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des internautes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aux cherchu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419720" y="1828800"/>
            <a:ext cx="1676160" cy="16765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ssie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’actualité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4495680"/>
            <a:ext cx="1600200" cy="2133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pa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éb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00800" y="1066680"/>
            <a:ext cx="25146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s br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52480"/>
            <a:ext cx="2438280" cy="7621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travaill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324480" y="2666880"/>
            <a:ext cx="2590920" cy="60984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ositions démarche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édagog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324480" y="4648320"/>
            <a:ext cx="236232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norama d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ncepts scientifiq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24480" y="5410080"/>
            <a:ext cx="236232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cience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versus curricula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152280"/>
            <a:ext cx="3429000" cy="838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ZONE DYNAM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ffichage mensuel, courtes inform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52880" y="152280"/>
            <a:ext cx="37339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ZONE STAT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ffichage mensuel, avec archivage des dossi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324480" y="6248520"/>
            <a:ext cx="2590920" cy="3808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otre avis (questionnaire en lig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400800" y="3352680"/>
            <a:ext cx="2438280" cy="9144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ur aller plus lo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omaine des scienc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domaine so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1066680"/>
            <a:ext cx="3962520" cy="762120"/>
          </a:xfrm>
          <a:custGeom>
            <a:avLst/>
            <a:gdLst>
              <a:gd name="textAreaLeft" fmla="*/ 0 w 3962520"/>
              <a:gd name="textAreaRight" fmla="*/ 3962880 w 396252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467480" y="1447920"/>
            <a:ext cx="228600" cy="304560"/>
          </a:xfrm>
          <a:prstGeom prst="downArrow">
            <a:avLst>
              <a:gd name="adj1" fmla="val 50000"/>
              <a:gd name="adj2" fmla="val 3330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1143000"/>
            <a:ext cx="5486400" cy="685800"/>
          </a:xfrm>
          <a:custGeom>
            <a:avLst/>
            <a:gdLst>
              <a:gd name="textAreaLeft" fmla="*/ 0 w 5486400"/>
              <a:gd name="textAreaRight" fmla="*/ 5486760 w 548640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3505320"/>
            <a:ext cx="2057400" cy="10666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« Regards sur la science 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èves s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découvertes  scientif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olitique scientif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2895480"/>
            <a:ext cx="380880" cy="609840"/>
          </a:xfrm>
          <a:prstGeom prst="downArrow">
            <a:avLst>
              <a:gd name="adj1" fmla="val 50000"/>
              <a:gd name="adj2" fmla="val 400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0" y="2819520"/>
            <a:ext cx="685800" cy="1066680"/>
          </a:xfrm>
          <a:custGeom>
            <a:avLst/>
            <a:gdLst>
              <a:gd name="textAreaLeft" fmla="*/ 196920 w 685800"/>
              <a:gd name="textAreaRight" fmla="*/ 587520 w 685800"/>
              <a:gd name="textAreaTop" fmla="*/ 614520 h 1066680"/>
              <a:gd name="textAreaBottom" fmla="*/ 91368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2819520"/>
            <a:ext cx="152640" cy="1752480"/>
          </a:xfrm>
          <a:prstGeom prst="upDownArrow">
            <a:avLst>
              <a:gd name="adj1" fmla="val 50000"/>
              <a:gd name="adj2" fmla="val 228559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ffe7"/>
            </a:gs>
            <a:gs pos="100000">
              <a:srgbClr val="5f756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1523880" y="380880"/>
          <a:ext cx="6096240" cy="609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80880"/>
                    <a:ext cx="6096240" cy="609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2T10:19:53Z</dcterms:created>
  <dc:creator>jauzein</dc:creator>
  <dc:description/>
  <dc:language>en-US</dc:language>
  <cp:lastModifiedBy>jauzein</cp:lastModifiedBy>
  <dcterms:modified xsi:type="dcterms:W3CDTF">2006-11-12T12:24:26Z</dcterms:modified>
  <cp:revision>14</cp:revision>
  <dc:subject/>
  <dc:title>Présentation PowerPoint</dc:title>
</cp:coreProperties>
</file>