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914-3FED-4D39-BECA-B1A33F8F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586C-5E59-4951-8293-84D3AC12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6A76-AC0B-4DFC-991B-4D799420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F44-BFCB-4D58-859D-73450C09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58C3-A2B5-4378-9C70-827FA114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612D-47CD-430E-A437-1C43F7E0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4878-815E-4AC7-8581-CEF8C386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82E5-339B-4A6D-83A9-1320EA4A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879C-3F1E-40FC-A7C1-C851D721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935F-0DEB-4C34-8991-D1780C06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F631-337F-4B9E-B4DF-0024337A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E15-DFC8-4778-9740-5B7BA220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3C21-C282-4B0C-9540-88969091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4BA5-C34A-4DB5-8113-308676C0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5B6B-5B71-4133-8B16-57826137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BC95-75C0-4B15-9BCA-77225262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5E1D-5A8E-4460-8C54-A1679C94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D75-35F3-4E20-951C-E4A65082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C244-6A12-491C-8071-DF3A3E41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3AAE-5D5B-4E01-8361-DE0C5D0A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F7A-7B44-4E62-9458-36E045E2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9AB-33B4-452A-BA10-82DCFFE7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6640-5DD8-403A-BA98-8D265021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B8CA-636E-4AD3-BFFA-F8B7E8D8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DDFE-ACFE-4965-899A-4147BEB075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9B83-75A4-42C0-9DBB-4777930453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3"/>
          <p:cNvSpPr/>
          <p:nvPr/>
        </p:nvSpPr>
        <p:spPr>
          <a:xfrm>
            <a:off x="0" y="18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s sorties peuvent s’inscrire dans les programmes de collège sur le niveau 5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4"/>
          <p:cNvSpPr/>
          <p:nvPr/>
        </p:nvSpPr>
        <p:spPr>
          <a:xfrm>
            <a:off x="0" y="69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30073"/>
                </a:solidFill>
                <a:latin typeface="Arial"/>
              </a:rPr>
              <a:t>Géologie externe: évolution des pay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95280" y="1413000"/>
          <a:ext cx="8569440" cy="5259240"/>
        </p:xfrm>
        <a:graphic>
          <a:graphicData uri="http://schemas.openxmlformats.org/drawingml/2006/table">
            <a:tbl>
              <a:tblPr/>
              <a:tblGrid>
                <a:gridCol w="2736720"/>
                <a:gridCol w="3095640"/>
                <a:gridCol w="2737080"/>
              </a:tblGrid>
              <a:tr h="105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nnaissa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500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apacités et attitu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500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mment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500e5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’Homme prélève dans son environn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éologique les matériaux qui lui so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écessaires et prend en compte 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nséquences de son action sur le paysag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server, recenser et organiser des informations pour identifier les élé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ignificatifs du modelé dans un paysage loc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server, recenser et organiser des informations afin de comprendre la nécess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’exploitation de matériaux géologiques et de percevoir les effets de cette exploitation s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’environn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a géologie étant une science de terrain, 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’appuie sur un exemple local, à part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’observations de terra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hèmes de convergence :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éveloppement durable, sécur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bf5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0" y="115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Ces sorties s’inscrivent aussi  dans les programmes du lycé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Thème 2 - Enjeux planétaires contempo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981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hème 2 -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ectonique des plaques et géologie appliquée </a:t>
            </a: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3141720"/>
            <a:ext cx="9144000" cy="2176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0" y="2781360"/>
            <a:ext cx="9144000" cy="36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re 1" descr=""/>
          <p:cNvPicPr/>
          <p:nvPr/>
        </p:nvPicPr>
        <p:blipFill>
          <a:blip r:embed="rId2"/>
          <a:stretch/>
        </p:blipFill>
        <p:spPr>
          <a:xfrm>
            <a:off x="646200" y="1365120"/>
            <a:ext cx="8521560" cy="187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0" y="342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30073"/>
                </a:solidFill>
                <a:latin typeface="Arial"/>
                <a:ea typeface="Calibri"/>
              </a:rPr>
              <a:t>Problémati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30073"/>
                </a:solidFill>
                <a:latin typeface="Arial"/>
                <a:ea typeface="Calibri"/>
              </a:rPr>
              <a:t>Comment les affleurements et les paysages montrent-ils des traces de la tectonique à l’échelle locale 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3"/>
          <p:cNvSpPr/>
          <p:nvPr/>
        </p:nvSpPr>
        <p:spPr>
          <a:xfrm>
            <a:off x="0" y="27813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répondre à cette problématique, la sortie s’organise de la façon suiva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. En amont de la sortie, une séance en 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. La sortie sur le terrain une jour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. Le compte-rendu avec l’utilisation de Qgis en TP ou en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ZoneTexte 2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e carrière de sable  en exploitation: Mont du Gâ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D:\Cours Lycée\sortie pays de bray\Photos Pays de Bray\Roncherolles1.JPG"/>
          <p:cNvPicPr/>
          <p:nvPr/>
        </p:nvPicPr>
        <p:blipFill>
          <a:blip r:embed="rId1"/>
          <a:stretch/>
        </p:blipFill>
        <p:spPr>
          <a:xfrm>
            <a:off x="611280" y="836640"/>
            <a:ext cx="3240000" cy="1822320"/>
          </a:xfrm>
          <a:prstGeom prst="rect">
            <a:avLst/>
          </a:prstGeom>
          <a:ln w="0">
            <a:noFill/>
          </a:ln>
        </p:spPr>
      </p:pic>
      <p:sp>
        <p:nvSpPr>
          <p:cNvPr id="94" name="ZoneTexte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ur le terrain, la sortie se compose de 3 arrê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56536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. Un paysage à la Ferté Saint Sam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D:\Cours Lycée\sortie pays de bray\Photos Pays de Bray\La Ferte3.JPG"/>
          <p:cNvPicPr/>
          <p:nvPr/>
        </p:nvPicPr>
        <p:blipFill>
          <a:blip r:embed="rId2"/>
          <a:stretch/>
        </p:blipFill>
        <p:spPr>
          <a:xfrm>
            <a:off x="826920" y="3068640"/>
            <a:ext cx="3457800" cy="19447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0" y="5013360"/>
            <a:ext cx="55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3. Une autre carrière non exploitée : Grumesn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5508720" y="3500280"/>
            <a:ext cx="3429000" cy="3152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5148360" y="2062080"/>
            <a:ext cx="3311280" cy="1085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ZoneTexte 3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30073"/>
                </a:solidFill>
                <a:latin typeface="Calibri"/>
              </a:rPr>
              <a:t>Intégration du logiciel QGis dans la  démarche d’investig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D:\formaterre\Formaterre 2013\Coucheset projetsortieQGis\TableattributMontdugat.jpg"/>
          <p:cNvPicPr/>
          <p:nvPr/>
        </p:nvPicPr>
        <p:blipFill>
          <a:blip r:embed="rId1"/>
          <a:stretch/>
        </p:blipFill>
        <p:spPr>
          <a:xfrm>
            <a:off x="4500720" y="3789360"/>
            <a:ext cx="4290840" cy="2913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:\formaterre\Formaterre 2013\Coucheset projetsortieQGis\compterenduQgis.jpg"/>
          <p:cNvPicPr/>
          <p:nvPr/>
        </p:nvPicPr>
        <p:blipFill>
          <a:blip r:embed="rId2"/>
          <a:stretch/>
        </p:blipFill>
        <p:spPr>
          <a:xfrm>
            <a:off x="324000" y="1052640"/>
            <a:ext cx="6696000" cy="265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1782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l" pos="6294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30073"/>
                </a:solidFill>
                <a:latin typeface="Times New Roman Bold"/>
                <a:ea typeface="ヒラギノ角ゴ Pro W3"/>
              </a:rPr>
              <a:t>Probl</a:t>
            </a:r>
            <a:r>
              <a:rPr b="1" lang="fr-FR" sz="2800" spc="-1" strike="noStrike">
                <a:solidFill>
                  <a:srgbClr val="730073"/>
                </a:solidFill>
                <a:latin typeface="Arial"/>
                <a:ea typeface="ヒラギノ角ゴ Pro W3"/>
              </a:rPr>
              <a:t>é</a:t>
            </a:r>
            <a:r>
              <a:rPr b="1" lang="fr-FR" sz="2800" spc="-1" strike="noStrike">
                <a:solidFill>
                  <a:srgbClr val="730073"/>
                </a:solidFill>
                <a:latin typeface="Times New Roman Bold"/>
                <a:ea typeface="ヒラギノ角ゴ Pro W3"/>
              </a:rPr>
              <a:t>matique</a:t>
            </a:r>
            <a:r>
              <a:rPr b="1" lang="fr-FR" sz="2800" spc="-1" strike="noStrike">
                <a:solidFill>
                  <a:srgbClr val="730073"/>
                </a:solidFill>
                <a:latin typeface="Arial"/>
                <a:ea typeface="ヒラギノ角ゴ Pro W3"/>
              </a:rPr>
              <a:t> </a:t>
            </a:r>
            <a:r>
              <a:rPr b="1" lang="fr-FR" sz="2800" spc="-1" strike="noStrike">
                <a:solidFill>
                  <a:srgbClr val="730073"/>
                </a:solidFill>
                <a:latin typeface="Times New Roman Bold"/>
                <a:ea typeface="ヒラギノ角ゴ Pro W3"/>
              </a:rPr>
              <a:t>: Utiliser l</a:t>
            </a:r>
            <a:r>
              <a:rPr b="1" lang="fr-FR" sz="2800" spc="-1" strike="noStrike">
                <a:solidFill>
                  <a:srgbClr val="730073"/>
                </a:solidFill>
                <a:latin typeface="Arial"/>
                <a:ea typeface="ヒラギノ角ゴ Pro W3"/>
              </a:rPr>
              <a:t>’</a:t>
            </a:r>
            <a:r>
              <a:rPr b="1" lang="fr-FR" sz="2800" spc="-1" strike="noStrike">
                <a:solidFill>
                  <a:srgbClr val="730073"/>
                </a:solidFill>
                <a:latin typeface="Times New Roman Bold"/>
                <a:ea typeface="ヒラギノ角ゴ Pro W3"/>
              </a:rPr>
              <a:t>observation des monuments Rouennais pour aborder l</a:t>
            </a:r>
            <a:r>
              <a:rPr b="1" lang="fr-FR" sz="2800" spc="-1" strike="noStrike">
                <a:solidFill>
                  <a:srgbClr val="730073"/>
                </a:solidFill>
                <a:latin typeface="Arial"/>
                <a:ea typeface="ヒラギノ角ゴ Pro W3"/>
              </a:rPr>
              <a:t>’</a:t>
            </a:r>
            <a:r>
              <a:rPr b="1" lang="fr-FR" sz="2800" spc="-1" strike="noStrike">
                <a:solidFill>
                  <a:srgbClr val="730073"/>
                </a:solidFill>
                <a:latin typeface="Times New Roman Bold"/>
                <a:ea typeface="ヒラギノ角ゴ Pro W3"/>
              </a:rPr>
              <a:t>exploitation par l</a:t>
            </a:r>
            <a:r>
              <a:rPr b="1" lang="fr-FR" sz="2800" spc="-1" strike="noStrike">
                <a:solidFill>
                  <a:srgbClr val="730073"/>
                </a:solidFill>
                <a:latin typeface="Arial"/>
                <a:ea typeface="ヒラギノ角ゴ Pro W3"/>
              </a:rPr>
              <a:t>’</a:t>
            </a:r>
            <a:r>
              <a:rPr b="1" lang="fr-FR" sz="2800" spc="-1" strike="noStrike">
                <a:solidFill>
                  <a:srgbClr val="730073"/>
                </a:solidFill>
                <a:latin typeface="Times New Roman Bold"/>
                <a:ea typeface="ヒラギノ角ゴ Pro W3"/>
              </a:rPr>
              <a:t>Homme des ressources g</a:t>
            </a:r>
            <a:r>
              <a:rPr b="1" lang="fr-FR" sz="2800" spc="-1" strike="noStrike">
                <a:solidFill>
                  <a:srgbClr val="730073"/>
                </a:solidFill>
                <a:latin typeface="Arial"/>
                <a:ea typeface="ヒラギノ角ゴ Pro W3"/>
              </a:rPr>
              <a:t>é</a:t>
            </a:r>
            <a:r>
              <a:rPr b="1" lang="fr-FR" sz="2800" spc="-1" strike="noStrike">
                <a:solidFill>
                  <a:srgbClr val="730073"/>
                </a:solidFill>
                <a:latin typeface="Times New Roman Bold"/>
                <a:ea typeface="ヒラギノ角ゴ Pro W3"/>
              </a:rPr>
              <a:t>ologiques loc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324000" y="404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30073"/>
                </a:solidFill>
                <a:latin typeface="Calibri"/>
              </a:rPr>
              <a:t>Intégration du logiciel QGis dans la  démarche d’investig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016840" cy="430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14:50:33Z</dcterms:created>
  <dc:creator>Carole</dc:creator>
  <dc:description/>
  <dc:language>en-US</dc:language>
  <cp:lastModifiedBy>Carole</cp:lastModifiedBy>
  <dcterms:modified xsi:type="dcterms:W3CDTF">2013-11-13T11:04:11Z</dcterms:modified>
  <cp:revision>58</cp:revision>
  <dc:subject/>
  <dc:title>Sortie  dans le Pays de Bray</dc:title>
</cp:coreProperties>
</file>