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734F0-A5DF-4D9B-B775-C9C7A794B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5F447-B65E-4405-B7E6-5D70C4F22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5CF82-ED66-41B3-905D-421A7C394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3970-9CBE-4A51-B289-F637B4918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2EDA-7060-4DB2-A59A-0191A4ED7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42C0D-812D-4F53-A359-B4C0ABA2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E5010-27FC-4673-8D3F-22B2098C9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AFBD-0F52-4D8E-AAFE-FA15BBE58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352B-8A58-43BC-AB88-B873692F0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465F-A11F-47D2-9B9C-46D6ED80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AB9A4-C588-4863-8567-1AF34E85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0A87B-C9DF-4320-A09A-B8A3EC18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52AE6-085E-4B11-9BCD-37D6AEA365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219320" y="0"/>
          <a:ext cx="6858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0"/>
                    <a:ext cx="6858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5T10:11:13Z</dcterms:created>
  <dc:creator>claire</dc:creator>
  <dc:description/>
  <dc:language>en-US</dc:language>
  <cp:lastModifiedBy>claire</cp:lastModifiedBy>
  <dcterms:modified xsi:type="dcterms:W3CDTF">2004-05-05T10:11:33Z</dcterms:modified>
  <cp:revision>1</cp:revision>
  <dc:subject/>
  <dc:title>Présentation PowerPoint</dc:title>
</cp:coreProperties>
</file>