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7B94-D14B-4A68-9741-76B4EB8B7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B5603-E6E1-4086-BAED-E3AFCE619E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3EF42-50A2-4E9D-9381-69465CA235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71320-FDE9-45DB-B925-738C064B1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9216A-D8B0-4E15-92DA-EEC2FDF35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EF45-81C9-4BE1-A0BC-6B5136785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7EA9-745A-4BB5-A491-3166185A4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92B0-DBD7-413C-8D9D-A557FFF12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3AA2-F559-43D5-B1CD-2583DC869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84EE4-841A-4DC5-86F3-89AA9DBE7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E2DA-3CD0-4973-B25F-E4662B2D8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37D2D-52A1-43B5-AA71-87B0C49B4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E95C3-F218-469E-AC2F-0EC6014A35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dame B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/>
          </p:nvPr>
        </p:nvSpPr>
        <p:spPr>
          <a:xfrm>
            <a:off x="228600" y="685440"/>
            <a:ext cx="8686800" cy="6172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dame BF, âgée de 85 ans, vient à l’hôpital de jour, amenée par sa fille pour une évaluation cognitive suite à l’apparition de troubles mnésiqu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Histoire de la maladie</a:t>
            </a:r>
            <a:r>
              <a:rPr b="1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 fille de madame BF évoque l’apparition insidieuse il y a 1an ½ de troubles de la mémoire des faits réc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le chute 4 mois auparavant alors qu’elle marchait dans la rue : sensation de dérobement des jambes avec impossibilité de marcher pendant quelques minut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continué a avoir des difficultés dans la marche pendant environ 1 mois bien qu’elle a bénéficié d’une rééduc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s troubles de la mémoire se sont aggravés suite à cette chute lors d’un épisode de dépression: ne mangeait plus, anhédoni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l apparaît également un problème d’hygiène et d’alimenta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/>
          </p:nvPr>
        </p:nvSpPr>
        <p:spPr>
          <a:xfrm>
            <a:off x="533520" y="0"/>
            <a:ext cx="8610480" cy="685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Antécédents 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1</a:t>
            </a:r>
            <a:r>
              <a:rPr b="0" lang="fr-FR" sz="20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er</a:t>
            </a: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épisode de chute il y a 1 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HTA depuis environ 20 ans traité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hypercholestérolémi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hernie hista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diabète non insulino-dépenda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fr-FR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Mode de vie 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      Veuv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      Vit seule en pavill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      NC= C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      Femme de ménage 2 fois /jou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      Pas de problème d’aménag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      Ne gère plus son budget depuis 1 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         Fait une partie des cour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-360" y="304560"/>
            <a:ext cx="8001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Examen des fonctions supérieur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</a:rPr>
              <a:t>MMS= 14/3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ientation temporelle = 0/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ientation spatiale = 1/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épétition des 3 mots = 3/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lcul = 2/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appel des 3 mots = 0/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énomination = 2/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épétition de la phrase = 1/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dres successifs = 3/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« Fermez les yeux » = 1/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Écriture = 1/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sin = 0/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5 mots de Dubois = 3/10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L1 : 2 ; RI1 : 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L2 : 0 ; RI2 : 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4T16:59:04Z</dcterms:created>
  <dc:creator>claire</dc:creator>
  <dc:description/>
  <dc:language>en-US</dc:language>
  <cp:lastModifiedBy>claire</cp:lastModifiedBy>
  <dcterms:modified xsi:type="dcterms:W3CDTF">2004-05-09T14:28:39Z</dcterms:modified>
  <cp:revision>12</cp:revision>
  <dc:subject/>
  <dc:title>Madame IS</dc:title>
</cp:coreProperties>
</file>