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697-6A63-46D6-AB9F-87ECB719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012-0A68-4E0A-AD46-351830AC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595-137A-4E07-BD88-F7953E49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2D3-BE01-4DFE-9595-BFDA1597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6F0-07A9-44FD-A6DC-29089386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8F9-5703-492A-BA22-38290DCA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1D4-2C65-4879-964B-529A54CE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985-5B0D-4946-8E95-F449386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7DF-B686-422A-AEAD-1A325B3E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2E1-A1BA-4480-A125-9FE56D7D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278-4FEC-401D-A6A9-6547442E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57E-9ABB-43D1-A9F8-A262A6BF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B968-C0DD-4B1B-B14E-4609D5B2F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elles cognitives glob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= 14/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96= 40/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53352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PSYCHOMETRIE COG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2743200"/>
          <a:ext cx="761976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761976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660680" y="609480"/>
          <a:ext cx="5821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609480"/>
                    <a:ext cx="5821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8440" y="541440"/>
          <a:ext cx="8515440" cy="60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541440"/>
                    <a:ext cx="8515440" cy="60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ence littérale : Mots commençant par « S » en une minute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quences motrices de Luria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éfici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gnes conflictuelles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citaire: suit le rythme de l’exam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reuve Go-No-Go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citaire,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début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 le rythme de l’examinateur, répond ensuite systématiquement par 4 ou 5 frap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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tention 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tage à rebours de 20 à 0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éficitaire : se perd et compte en ord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ocation des mois de l’année à rebours 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an numérique endro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an numérique env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11200"/>
          <a:ext cx="825192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11200"/>
                    <a:ext cx="825192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14400" y="57150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 intrusions et 14 réponses persévér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28600" y="228600"/>
          <a:ext cx="838044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émoire sémant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ence catégorielle de la BEC96 : animaux en 1 min : 3/12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uil=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preuve de dénomination de la BEC96 : 11/12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uil=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nctions phasiqu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 : Expression : manque du m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éhension simple préservée mais des difficultés apparaissent lors de consignes plus comple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corre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criture correc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nctions gnosiqu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naissance des couleurs : cor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naissance de figures enchevêtrées : cor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nctions praxiqu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xies constructives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ctions incomplètes et déstructur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METRIE PSYCHOPATHOLOGIQUE ET NON-COGN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elles de dépressi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RS=0/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3:02Z</dcterms:created>
  <dc:creator>claire</dc:creator>
  <dc:description/>
  <dc:language>en-US</dc:language>
  <cp:lastModifiedBy>claire</cp:lastModifiedBy>
  <dcterms:modified xsi:type="dcterms:W3CDTF">2004-05-09T16:23:13Z</dcterms:modified>
  <cp:revision>15</cp:revision>
  <dc:subject/>
  <dc:title>Présentation PowerPoint</dc:title>
</cp:coreProperties>
</file>