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BEA-8510-4106-BCE7-33F0B273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811-EE70-4076-A818-4BDAC812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A04-87C7-4630-8998-B32828AF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C22-B766-4F03-8207-F395E53E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F5A-A220-4D36-B402-6E22943C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0B4-5E45-445E-9693-C9541930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C75-84A6-4D11-A16F-DED9B61B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E99-B6BF-45A9-A788-C230C685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FA1-88BD-4406-B6C8-B5CC0943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A73-B50B-448B-B376-A07BC342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2D0-9D43-4AB1-A5E7-7640AC16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13C-B3E8-47F7-BAB6-890867B7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9166-D068-4FCA-941F-35196CF11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dame 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ame BF, âgée de 85 ans, vient à l’hôpital de jour, amenée par sa fille pour une évaluation cognitive suite à l’apparition de troubles mnésiq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stoire de la maladie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ille de madame BF évoque l’apparition insidieuse il y a 1an ½ de troubles de la mémoire des faits ré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chute 4 mois auparavant alors qu’elle marchait dans la rue : sensation de dérobement des jambes avec impossibilité de marcher pendant quelques minu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é a avoir des difficultés dans la marche pendant environ 1 mois bien qu’elle a bénéficié d’une réédu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troubles de la mémoire se sont aggravés suite à cette chute lors d’un épisode de dépression: ne mangeait plus, anhéd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pparaît également un problème d’hygiène et d’alim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écédent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pisode de chute il y a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TA depuis environ 20 ans trait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ypercholestérolé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ernie his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abète non insulino-dépe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de de vi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it seule en pavi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C= C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Femme de ménage 2 fois /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Pas de problème d’amé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e gère plus son budget depuis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Fait une partie des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en des fonctions supérie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MS= 14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temporelle = 0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spatiale = 1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pétition des 3 mots = 3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 = 2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pel des 3 mots = 0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nomination = 2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pétition de la phrase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res successifs = 3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 Fermez les yeux »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criture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sin = 0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mots de Dubois = 3/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1 : 2 ; RI1 :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2 : 0 ; RI2 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6:59:04Z</dcterms:created>
  <dc:creator>claire</dc:creator>
  <dc:description/>
  <dc:language>en-US</dc:language>
  <cp:lastModifiedBy>claire</cp:lastModifiedBy>
  <dcterms:modified xsi:type="dcterms:W3CDTF">2004-05-09T14:28:39Z</dcterms:modified>
  <cp:revision>12</cp:revision>
  <dc:subject/>
  <dc:title>Madame IS</dc:title>
</cp:coreProperties>
</file>