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7C7-93EE-47F8-B5AE-39BBD8C1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180-ED48-4C3C-8306-8A6E8561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06D-623B-4C76-B492-6139B70C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4EB-8CC7-479C-B0A0-72C0EBEA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CDD-6F71-4A78-AB5A-4B39256A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F07-C722-4CD1-96B6-1E20B690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C09-CEDA-441F-AC63-E0A48393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D72-4766-4E96-93B6-231E971C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A78-E630-4176-B539-5008A275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04D-6415-4901-8011-59BA393A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78A-B3E4-4919-A431-8EAE137C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576-349E-4BAC-B23F-45800F04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FA60-1312-4D7F-B481-871D8AA34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19320" y="0"/>
          <a:ext cx="6858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858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0:11:13Z</dcterms:created>
  <dc:creator>claire</dc:creator>
  <dc:description/>
  <dc:language>en-US</dc:language>
  <cp:lastModifiedBy>claire</cp:lastModifiedBy>
  <dcterms:modified xsi:type="dcterms:W3CDTF">2004-05-05T10:11:33Z</dcterms:modified>
  <cp:revision>1</cp:revision>
  <dc:subject/>
  <dc:title>Présentation PowerPoint</dc:title>
</cp:coreProperties>
</file>