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CE8BD-E712-40A9-8B8D-641B0E860B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3FED3-D72C-493B-B1E8-9459AB56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8A5A3-10AB-40DE-BD41-5E7F12ED4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74AAD-E38B-43C0-B889-822F4D44AC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4D57-978F-4CC3-86A8-192DF09A3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1B92-9C36-45F4-A68B-2A04F9EF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C374-92B5-4D63-8664-25BC4AF460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7194-39F2-435F-B126-1952EAA96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388AE-C7F5-4122-9DF5-FC47850B43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1898-1285-4EE7-A27C-66A71C256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08A1-AF29-4450-86EF-DF545D3FD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BE744-D3C1-4F63-9818-34D71CE8D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8D228-D8DA-4E08-98BD-121CE6477F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533520" y="121896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elles cognitives global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MS= 14/30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EC96= 40/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533520"/>
            <a:ext cx="70102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EUROPSYCHOMETRIE COGNIT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3" name=""/>
          <p:cNvGraphicFramePr/>
          <p:nvPr/>
        </p:nvGraphicFramePr>
        <p:xfrm>
          <a:off x="762120" y="2743200"/>
          <a:ext cx="7619760" cy="3952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2743200"/>
                    <a:ext cx="7619760" cy="39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1660680" y="609480"/>
          <a:ext cx="5821200" cy="548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60680" y="609480"/>
                    <a:ext cx="5821200" cy="548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298440" y="541440"/>
          <a:ext cx="8515440" cy="609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98440" y="541440"/>
                    <a:ext cx="8515440" cy="609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228240" y="160020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ence littérale : Mots commençant par « S » en une minute 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équences motrices de Luria :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déficitai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signes conflictuelles 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ficitaire: suit le rythme de l’examinate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preuve Go-No-Go 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éficitaire,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u début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uit le rythme de l’examinateur, répond ensuite systématiquement par 4 ou 5 frappe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3520" y="838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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ttention :</a:t>
            </a: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tage à rebours de 20 à 0 :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déficitaire : se perd et compte en ordre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re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vocation des mois de l’année à rebours :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mpossi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an numérique endroit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: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mpan numérique envers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: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511200" y="511200"/>
          <a:ext cx="8251920" cy="5726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1200" y="511200"/>
                    <a:ext cx="8251920" cy="572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" name=""/>
          <p:cNvSpPr/>
          <p:nvPr/>
        </p:nvSpPr>
        <p:spPr>
          <a:xfrm>
            <a:off x="914400" y="5715000"/>
            <a:ext cx="7391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19 intrusions et 14 réponses persévérativ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228600" y="228600"/>
          <a:ext cx="8380440" cy="6629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440" cy="662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380880" y="22860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émoire sémantiqu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uence catégorielle de la BEC96 : animaux en 1 min : 3/12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uil=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preuve de dénomination de la BEC96 : 11/12 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seuil=9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nctions phasique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ral : Expression : manque du mo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mpréhension simple préservée mais des difficultés apparaissent lors de consignes plus complex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ecture correc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Écriture correcte</a:t>
            </a: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228240" y="228240"/>
            <a:ext cx="89154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nctions gnosique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naissance des couleurs : cor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connaissance de figures enchevêtrées : correc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Fonctions praxique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raxies constructives : 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productions incomplètes et déstructuré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SYCHOMETRIE PSYCHOPATHOLOGIQUE ET NON-COGNITI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Echelles de dépression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RS=0/6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7:13:02Z</dcterms:created>
  <dc:creator>claire</dc:creator>
  <dc:description/>
  <dc:language>en-US</dc:language>
  <cp:lastModifiedBy>claire</cp:lastModifiedBy>
  <dcterms:modified xsi:type="dcterms:W3CDTF">2004-05-09T16:23:13Z</dcterms:modified>
  <cp:revision>15</cp:revision>
  <dc:subject/>
  <dc:title>Présentation PowerPoint</dc:title>
</cp:coreProperties>
</file>