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783-E0C8-49D0-A39B-0971B99A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6AA-5504-4EBB-A426-1D97F37B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E0F-E359-4CC5-A07C-1C4ABD35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D83-DD9C-4ED7-A6D5-DF059A27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D06-D9BD-4EE2-A58B-848CBF7D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02D-6B4F-4E4E-8AE6-EA192C65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E61D-C370-4F7C-8EF7-AD8AB513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664-5EE4-44E1-8CB9-8A6EC1FA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58A-7CFA-4354-BBC0-5D715530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D39-D0AD-463C-B7DB-8B8359A6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8AC-5345-46D5-B1E7-66544EB9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818-C1AC-4787-89C1-C3AF9B1F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3E15-26AA-4275-8093-9C73BEABDD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octobre%202005/TabOrientation.doc" TargetMode="External"/><Relationship Id="rId2" Type="http://schemas.openxmlformats.org/officeDocument/2006/relationships/hyperlink" Target="file:///octobre%202005/Saccades.doc" TargetMode="External"/><Relationship Id="rId3" Type="http://schemas.openxmlformats.org/officeDocument/2006/relationships/hyperlink" Target="file:///octobre%202005/Vergence.doc" TargetMode="External"/><Relationship Id="rId4" Type="http://schemas.openxmlformats.org/officeDocument/2006/relationships/hyperlink" Target="file:///octobre%202005/Poursuite.doc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octobre%202005/pages%20techniques.doc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octobre%202005/ApplicationsM&#233;dicales.doc" TargetMode="External"/><Relationship Id="rId2" Type="http://schemas.openxmlformats.org/officeDocument/2006/relationships/hyperlink" Target="file:///octobre%202005/ApplicationsNonM&#233;dicales.doc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octobre%202005/pathologies_akin&#233;topsie.doc" TargetMode="External"/><Relationship Id="rId2" Type="http://schemas.openxmlformats.org/officeDocument/2006/relationships/hyperlink" Target="file:///octobre%202005/oscillopsie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Arial"/>
              </a:rPr>
              <a:t>MOUVEMENT et 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00360" y="2314440"/>
            <a:ext cx="4038480" cy="3441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distingue deux grands types de mouvements oculai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Les mouvements de stabilisation de l’im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335772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ls permettent de fixer l’image sur une cible lorsque la tête bou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l s’agit des mouvements optocinétiques et des mouvements vestibulo-ocul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2.Les </a:t>
            </a:r>
            <a:r>
              <a:rPr b="0" lang="en-US" sz="4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mouvements d’orientation </a:t>
            </a: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du reg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s ont pour objectif de garder la fovéa sur une cible même lorsque celle-ci se dé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s’agit des mouvem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de sacc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de ver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de poursu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lques manipulations simples permettent d’aborder en classe les mouvements oculai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flexe vestibulo-oculai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cc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erg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s mouvements oculaires nécessitent la mise en jeu de voies nerveuses et de muscles oculomoteur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147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jourd’hui, la vision est l’objet de recherches d’un grand nombre d’équipes pluridisciplinaire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5640" y="5157360"/>
            <a:ext cx="73515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ela nécessite la mise au point de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techniques d’enregist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348000" y="2565360"/>
            <a:ext cx="3102120" cy="2325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68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68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 nombreuses applications en découlent 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Médi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2205000"/>
            <a:ext cx="35956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Non médi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403280" y="3429000"/>
            <a:ext cx="244800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076720" y="3429000"/>
            <a:ext cx="2303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Des pathologies affectent la perception du mouvement et/ou les mouvements du reg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3644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Akinétops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Oscillops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plopie/Strabis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8:30:12Z</dcterms:created>
  <dc:creator>ternaux</dc:creator>
  <dc:description/>
  <dc:language>en-US</dc:language>
  <cp:lastModifiedBy>ternaux</cp:lastModifiedBy>
  <dcterms:modified xsi:type="dcterms:W3CDTF">2005-11-04T16:32:01Z</dcterms:modified>
  <cp:revision>50</cp:revision>
  <dc:subject/>
  <dc:title>LE MOUVEMENT DU REGARD</dc:title>
</cp:coreProperties>
</file>